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3F4-7947-48DA-98B7-9E2B543C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CE7-448F-4602-A755-5EFF7019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4AB-0DB5-4015-B248-3E9CA418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E43-D304-4A7D-BB05-D60D79DB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3C19-A327-454E-8AD7-4198300F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167C-3B6E-4517-8817-F58F3FC2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462D-D196-4D80-AAE0-A9198EE9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1115-F20B-405E-8F11-CBCF9334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F1E3-E166-492C-9F32-384B5CFC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3BF3-AF97-40E6-9E3C-1209AA45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1908-DE96-4A5A-8E0E-08FE88B4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53D-F473-4C90-A709-92099D61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C7A6-6AE6-4D19-9D04-BF2B057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187A-9F33-49D9-9DCC-005CD39B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202B-F46F-4DE5-B4B6-1EA4431A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C133-B762-4255-9436-6FA3F9AB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9D48-B298-470F-B892-23F65817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F48-88B5-4BA4-8FD2-9CCAFBA4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632-68AF-44C6-ADCB-87276E08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BB2-8253-4B76-9C11-217962D0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26E-C5CB-42B1-A527-8B51004B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074-1A23-4F5B-B111-95891CFB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01A-CF0B-4F6E-8D84-463365B2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BCE-EE0E-4BE8-801F-AED757F7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412F-16DC-4E67-A480-E61199B90F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6F05-0983-46D7-84CF-96F859A3B4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2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r>
              <a:rPr b="0" lang="en-NZ" sz="6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By Hone Tuwh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Personifi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et your arms lack toughn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o is the poet addressing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The tre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et your arms lack toughn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other instances of personification can you find in the poem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Personifi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et your arms lack toughn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other instances of personification can you find in the poem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O tree/…a deferential head/…your naked arms fall/…Mor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ighlight and count the number of times the words </a:t>
            </a:r>
            <a:r>
              <a:rPr b="0" i="1" lang="en-NZ" sz="3100" spc="-1" strike="noStrike">
                <a:solidFill>
                  <a:srgbClr val="ff0000"/>
                </a:solidFill>
                <a:latin typeface="Arial"/>
              </a:rPr>
              <a:t>no, not, nor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re used in the first four vers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es their use sugges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kind of associations do the words </a:t>
            </a:r>
            <a:r>
              <a:rPr b="0" i="1" lang="en-NZ" sz="3100" spc="-1" strike="noStrike">
                <a:solidFill>
                  <a:srgbClr val="ff0000"/>
                </a:solidFill>
                <a:latin typeface="Arial"/>
              </a:rPr>
              <a:t>supplication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NZ" sz="3100" spc="-1" strike="noStrike">
                <a:solidFill>
                  <a:srgbClr val="ff0000"/>
                </a:solidFill>
                <a:latin typeface="Arial"/>
              </a:rPr>
              <a:t>enhaloed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av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relationship does an </a:t>
            </a:r>
            <a:r>
              <a:rPr b="0" i="1" lang="en-NZ" sz="3100" spc="-1" strike="noStrike">
                <a:solidFill>
                  <a:srgbClr val="ff0000"/>
                </a:solidFill>
                <a:latin typeface="Arial"/>
              </a:rPr>
              <a:t>axe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NZ" sz="3100" spc="-1" strike="noStrike">
                <a:solidFill>
                  <a:srgbClr val="ff0000"/>
                </a:solidFill>
                <a:latin typeface="Arial"/>
              </a:rPr>
              <a:t>fire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sually have to a tre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ow is the use of this in </a:t>
            </a:r>
            <a:r>
              <a:rPr b="1" lang="en-NZ" sz="3100" spc="-1" strike="noStrike">
                <a:solidFill>
                  <a:srgbClr val="ffffff"/>
                </a:solidFill>
                <a:latin typeface="Arial"/>
              </a:rPr>
              <a:t>line five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, verse one connected to the bright enhaloed cloud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1088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picture of the tree is suggested in verse two with the word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100" spc="-1" strike="noStrike">
                <a:solidFill>
                  <a:srgbClr val="ff0000"/>
                </a:solidFill>
                <a:latin typeface="Arial"/>
              </a:rPr>
              <a:t>rising sap, inclining head, stirring to the tickle of the rain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three activities does verse 3 suggest that the tree used to be involved in befor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three activities does verse 3 suggest that the tree used to be involved in befor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Wreathed with birds, shield and cool the lov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fore wha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What is the connection between.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700" spc="-1" strike="noStrike">
                <a:solidFill>
                  <a:srgbClr val="ff0000"/>
                </a:solidFill>
                <a:latin typeface="Arial"/>
              </a:rPr>
              <a:t>CLOU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700" spc="-1" strike="noStrike">
                <a:solidFill>
                  <a:srgbClr val="ff0000"/>
                </a:solidFill>
                <a:latin typeface="Arial"/>
              </a:rPr>
              <a:t>MONSTROUS SU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700" spc="-1" strike="noStrike">
                <a:solidFill>
                  <a:srgbClr val="ff0000"/>
                </a:solidFill>
                <a:latin typeface="Arial"/>
              </a:rPr>
              <a:t>RADIANT BAL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700" spc="-1" strike="noStrike">
                <a:solidFill>
                  <a:srgbClr val="ff0000"/>
                </a:solidFill>
                <a:latin typeface="Arial"/>
              </a:rPr>
              <a:t>FLAS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700" spc="-1" strike="noStrike">
                <a:solidFill>
                  <a:srgbClr val="ff0000"/>
                </a:solidFill>
                <a:latin typeface="Arial"/>
              </a:rPr>
              <a:t>BL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What image do you have in your mind when reading these word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Hone Tuwh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orn in Kaipara in 1922. Died in Otago 200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ribal affiliations; Ngapuhi, Ngati Korokoro, Ngati Tautahi, Te Popoto, Uri-O-Hau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pprenticed and worked as a boilermak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layed a very active role in the Trade Union Movement – eventually kicked out for being a troublemak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gan writing poetry seriously at the age of 34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ublished many poems in magazines and a number of poetry collection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"No Ordinary Sun" was published in 1964 and is still considered one of his most powerful poem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86040" cy="4629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Poetic Devic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Allite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Personif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Assona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Rhy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Rhyth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Find at least three examples for each in the po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familiar 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Supplication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0000"/>
                </a:solidFill>
                <a:latin typeface="Arial"/>
              </a:rPr>
              <a:t>a humble and sincere appeal to somebody who has the power to grant a requ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Resilience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0000"/>
                </a:solidFill>
                <a:latin typeface="Arial"/>
              </a:rPr>
              <a:t>the ability to recover quickly from set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familiar 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Deferential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Showing or expressing polite respect or courtes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rdou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Great passion, enthusiasm, or eagern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familiar 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heeding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Paying little att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Vain entreat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Hopeless appeal, ineffective requ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familiar 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Gallant monsoon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Grand and majestic ‘wave’/’wind’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rade win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A wind that blows towards the equator  - a major component of the global weather syste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familiar 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enhaloed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A circle/ring of light (in this instance around the cloud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Personifi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Personifi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et your arms lack toughn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o is the poet addressing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6:23Z</dcterms:created>
  <dc:creator>Ministry of Education</dc:creator>
  <dc:description/>
  <dc:language>en-US</dc:language>
  <cp:lastModifiedBy>egraham</cp:lastModifiedBy>
  <dcterms:modified xsi:type="dcterms:W3CDTF">2009-03-25T23:55:27Z</dcterms:modified>
  <cp:revision>7</cp:revision>
  <dc:subject/>
  <dc:title>Reading Poetry</dc:title>
</cp:coreProperties>
</file>